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D2F-AE0C-40F5-A918-32A1D203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C46-EEB5-46EC-85D0-A3F60405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B8F-4667-4951-B8FB-E32F24E2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372-1EF1-4117-808E-C174ACDF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9B1-224D-4500-8661-83537E37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A15-C843-4579-ADF0-928AE28F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2AA-0828-47B0-AA23-92654E9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819-8861-4BFA-8284-3AD3A58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0A5-3796-4C9B-91A7-6CA413FE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50B-1750-4197-A7B9-BAC9574A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1DF-1A9D-4215-AC8D-18BC7539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378-B9E6-4611-AB55-317ACDCD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377720" y="4044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Capital Community Colleg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63B-8AC4-4864-9009-09FF054C59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ctc.commnet.edu/HP/pages/darling/grammar/clauses.htm" TargetMode="External"/><Relationship Id="rId2" Type="http://schemas.openxmlformats.org/officeDocument/2006/relationships/hyperlink" Target="http://cctc.commnet.edu/HP/pages/darling/grammar/indep_clauses.htm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ctc.commnet.edu/HP/pages/darling/grammar/commas_intro.htm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ctc.commnet.edu/HP/pages/darling/grammar/adjectives.ht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ctc.commnet.edu/HP/pages/darling/grammar/commas.htm#Slide 6" TargetMode="External"/><Relationship Id="rId2" Type="http://schemas.openxmlformats.org/officeDocument/2006/relationships/hyperlink" Target="http://cctc.commnet.edu/HP/pages/darling/grammar/marks.htm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1337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set of slides will illustrate the most common uses of one of the most common punctuation mark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3838680"/>
            <a:ext cx="7010640" cy="15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Palatino"/>
              </a:rPr>
              <a:t>THE COMM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Palatino"/>
              <a:ea typeface="Palatino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9436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 the information icon and hyperlinks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(this color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to link to sources of further information in th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</a:rPr>
              <a:t>Guide to Grammar and Writi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3922" h="21600">
                <a:moveTo>
                  <a:pt x="1696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3922" h="21600">
                <a:moveTo>
                  <a:pt x="14385" y="8224"/>
                </a:moveTo>
                <a:lnTo>
                  <a:pt x="18249" y="8224"/>
                </a:lnTo>
                <a:lnTo>
                  <a:pt x="18249" y="15221"/>
                </a:lnTo>
                <a:lnTo>
                  <a:pt x="19537" y="15221"/>
                </a:lnTo>
                <a:lnTo>
                  <a:pt x="19537" y="16144"/>
                </a:lnTo>
                <a:lnTo>
                  <a:pt x="14385" y="16144"/>
                </a:lnTo>
                <a:lnTo>
                  <a:pt x="14385" y="15221"/>
                </a:lnTo>
                <a:lnTo>
                  <a:pt x="15673" y="15221"/>
                </a:lnTo>
                <a:lnTo>
                  <a:pt x="15673" y="9129"/>
                </a:lnTo>
                <a:lnTo>
                  <a:pt x="14385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renthetical element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352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ert Frost, perhaps America’s most beloved poet, died when he was 88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4290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33526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800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nkly, it doesn’t seem to matt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58672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7242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438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an appositive phrase can be removed from a sentence without changing its meaning or making it ambiguou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191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absolute phrase is treated as a parenthetical elemen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5334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addressed person’s (or people’s) nam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always parenthetical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5943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am warning you, good citizens of Hartford, this vote is crucial to the future of our ci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94360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8487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75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75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75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more parenthetical elemen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352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use me, but there are, of course, many points of view that we must consider before vot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3526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interjection is treated as a parenthetical elemen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2767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7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838080"/>
            <a:ext cx="8001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PowerPoint presentation was created b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 Darling, Ph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fessor of English and Webmas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pital Community Colle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rtford, Connectic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yright November 199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29400" y="3352680"/>
            <a:ext cx="1754280" cy="2146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1337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the elements of a series (three or more things), including the last tw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favorite uses of the Internet are sending e-mail, surfing the Web, and using chat roo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96160" y="387360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3434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ou may have learned that this comma is not necessa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724280"/>
            <a:ext cx="4343400" cy="762120"/>
          </a:xfrm>
          <a:custGeom>
            <a:avLst/>
            <a:gdLst/>
            <a:ahLst/>
            <a:rect l="l" t="t" r="r" b="b"/>
            <a:pathLst>
              <a:path w="2736" h="480">
                <a:moveTo>
                  <a:pt x="2736" y="480"/>
                </a:moveTo>
                <a:cubicBezTo>
                  <a:pt x="2703" y="343"/>
                  <a:pt x="2671" y="207"/>
                  <a:pt x="2592" y="144"/>
                </a:cubicBezTo>
                <a:cubicBezTo>
                  <a:pt x="2512" y="80"/>
                  <a:pt x="2536" y="96"/>
                  <a:pt x="2256" y="96"/>
                </a:cubicBezTo>
                <a:cubicBezTo>
                  <a:pt x="1976" y="96"/>
                  <a:pt x="1255" y="120"/>
                  <a:pt x="912" y="144"/>
                </a:cubicBezTo>
                <a:cubicBezTo>
                  <a:pt x="568" y="167"/>
                  <a:pt x="343" y="263"/>
                  <a:pt x="192" y="240"/>
                </a:cubicBezTo>
                <a:cubicBezTo>
                  <a:pt x="40" y="216"/>
                  <a:pt x="20" y="108"/>
                  <a:pt x="0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5867280"/>
            <a:ext cx="7772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times, however, the last two items in your series will glom into one if you don’t use the so-called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serial comm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21337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and a coordinating conjunction (and, but, or, nor, for, yet, so) to separate two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independent claus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733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ublic seems eager for some kind of gun control legislation, but the congress is obviously too timid to enact any truly effective measu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0384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029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the two independent clauses are brief and nicely balanced, this comma may be omitted, but the comma is always correc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09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team is very good but their team is better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638680"/>
            <a:ext cx="5486400" cy="1041480"/>
          </a:xfrm>
          <a:custGeom>
            <a:avLst/>
            <a:gdLst/>
            <a:ahLst/>
            <a:rect l="l" t="t" r="r" b="b"/>
            <a:pathLst>
              <a:path w="3632" h="656">
                <a:moveTo>
                  <a:pt x="3216" y="0"/>
                </a:moveTo>
                <a:cubicBezTo>
                  <a:pt x="3315" y="11"/>
                  <a:pt x="3415" y="23"/>
                  <a:pt x="3456" y="96"/>
                </a:cubicBezTo>
                <a:cubicBezTo>
                  <a:pt x="3496" y="168"/>
                  <a:pt x="3632" y="344"/>
                  <a:pt x="3456" y="432"/>
                </a:cubicBezTo>
                <a:cubicBezTo>
                  <a:pt x="3280" y="520"/>
                  <a:pt x="2896" y="592"/>
                  <a:pt x="2400" y="624"/>
                </a:cubicBezTo>
                <a:cubicBezTo>
                  <a:pt x="1904" y="656"/>
                  <a:pt x="880" y="640"/>
                  <a:pt x="480" y="624"/>
                </a:cubicBezTo>
                <a:cubicBezTo>
                  <a:pt x="80" y="608"/>
                  <a:pt x="40" y="568"/>
                  <a:pt x="0" y="5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>
            <a:hlinkClick r:id="rId2"/>
          </p:cNvPr>
          <p:cNvSpPr/>
          <p:nvPr/>
        </p:nvSpPr>
        <p:spPr>
          <a:xfrm>
            <a:off x="8153280" y="640080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2427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8549" h="21600">
                <a:moveTo>
                  <a:pt x="2427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8549" h="21600">
                <a:moveTo>
                  <a:pt x="21698" y="8224"/>
                </a:moveTo>
                <a:lnTo>
                  <a:pt x="25563" y="8224"/>
                </a:lnTo>
                <a:lnTo>
                  <a:pt x="25563" y="15221"/>
                </a:lnTo>
                <a:lnTo>
                  <a:pt x="26851" y="15221"/>
                </a:lnTo>
                <a:lnTo>
                  <a:pt x="26851" y="16144"/>
                </a:lnTo>
                <a:lnTo>
                  <a:pt x="21698" y="16144"/>
                </a:lnTo>
                <a:lnTo>
                  <a:pt x="21698" y="15221"/>
                </a:lnTo>
                <a:lnTo>
                  <a:pt x="22986" y="15221"/>
                </a:lnTo>
                <a:lnTo>
                  <a:pt x="22986" y="9129"/>
                </a:lnTo>
                <a:lnTo>
                  <a:pt x="21698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1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ntroductory elemen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xious about the upcoming winter, settlers began to bicker among themselves about suppl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89548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800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the introductory element is brief and the sentence can be read easily without the comma, it can be omitt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1649 the settlers abandoned their initial outpost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09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winter of 1644, nearly half the settlers died of starvation or exposu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7339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>
            <a:hlinkClick r:id="rId1"/>
          </p:cNvPr>
          <p:cNvSpPr/>
          <p:nvPr/>
        </p:nvSpPr>
        <p:spPr>
          <a:xfrm>
            <a:off x="7772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392" h="21600">
                <a:moveTo>
                  <a:pt x="161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392" h="21600">
                <a:moveTo>
                  <a:pt x="13619" y="8224"/>
                </a:moveTo>
                <a:lnTo>
                  <a:pt x="17484" y="8224"/>
                </a:lnTo>
                <a:lnTo>
                  <a:pt x="17484" y="15221"/>
                </a:lnTo>
                <a:lnTo>
                  <a:pt x="18772" y="15221"/>
                </a:lnTo>
                <a:lnTo>
                  <a:pt x="18772" y="16144"/>
                </a:lnTo>
                <a:lnTo>
                  <a:pt x="13619" y="16144"/>
                </a:lnTo>
                <a:lnTo>
                  <a:pt x="13619" y="15221"/>
                </a:lnTo>
                <a:lnTo>
                  <a:pt x="14908" y="15221"/>
                </a:lnTo>
                <a:lnTo>
                  <a:pt x="14908" y="9129"/>
                </a:lnTo>
                <a:lnTo>
                  <a:pt x="13619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4960" y="5410080"/>
            <a:ext cx="6108840" cy="1308240"/>
          </a:xfrm>
          <a:custGeom>
            <a:avLst/>
            <a:gdLst/>
            <a:ahLst/>
            <a:rect l="l" t="t" r="r" b="b"/>
            <a:pathLst>
              <a:path w="3848" h="824">
                <a:moveTo>
                  <a:pt x="3608" y="0"/>
                </a:moveTo>
                <a:cubicBezTo>
                  <a:pt x="3704" y="136"/>
                  <a:pt x="3800" y="272"/>
                  <a:pt x="3800" y="384"/>
                </a:cubicBezTo>
                <a:cubicBezTo>
                  <a:pt x="3800" y="496"/>
                  <a:pt x="3848" y="600"/>
                  <a:pt x="3608" y="672"/>
                </a:cubicBezTo>
                <a:cubicBezTo>
                  <a:pt x="3368" y="744"/>
                  <a:pt x="2840" y="808"/>
                  <a:pt x="2360" y="816"/>
                </a:cubicBezTo>
                <a:cubicBezTo>
                  <a:pt x="1880" y="824"/>
                  <a:pt x="1104" y="744"/>
                  <a:pt x="728" y="720"/>
                </a:cubicBezTo>
                <a:cubicBezTo>
                  <a:pt x="352" y="696"/>
                  <a:pt x="207" y="703"/>
                  <a:pt x="104" y="672"/>
                </a:cubicBezTo>
                <a:cubicBezTo>
                  <a:pt x="0" y="640"/>
                  <a:pt x="52" y="584"/>
                  <a:pt x="104" y="528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21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parate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coordinate adjectiv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aches grew weary of running practices in the drafty, dreary,  dilapidated gymnasiu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281952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800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you could put a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or a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between the adjectives, you should put a comma between the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715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n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dern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xpensive</a:t>
            </a:r>
            <a:r>
              <a:rPr b="1" lang="en-US" sz="3200" spc="-1" strike="noStrike">
                <a:solidFill>
                  <a:srgbClr val="ea062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dern . . . . Bu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a little and old hou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A little old house” would be correc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9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signs for an expensive, modern gym should make them happ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81952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7339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624852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cubicBezTo>
                  <a:pt x="0" y="0"/>
                  <a:pt x="120" y="120"/>
                  <a:pt x="240" y="240"/>
                </a:cubicBezTo>
              </a:path>
            </a:pathLst>
          </a:custGeom>
          <a:noFill/>
          <a:ln w="25560">
            <a:solidFill>
              <a:srgbClr val="ea06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62485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240"/>
                </a:moveTo>
                <a:cubicBezTo>
                  <a:pt x="0" y="240"/>
                  <a:pt x="144" y="120"/>
                  <a:pt x="288" y="0"/>
                </a:cubicBezTo>
              </a:path>
            </a:pathLst>
          </a:custGeom>
          <a:noFill/>
          <a:ln w="28440">
            <a:solidFill>
              <a:srgbClr val="ea06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75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elements that express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tra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ur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n the sent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276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ouse was cute, but too expensive for the newlywed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9625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2767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962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were looking for something practical, not luxur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75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states and countries, years (in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ate), title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276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ference was originally set for Geneva, Switzerland, but was then rescheduled for Chicago, Illino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32004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36576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267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wedding date was set for August 5, 2000, in the college chapel in Newton, Massachuset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1911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46483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19112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257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honda Klondike, Chair of the Ways and Means Committee, submitted the committee’s final repor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525780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518148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32004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75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21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quoted languag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276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st’s poem “Fire and Ice” begins with the lines,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ay the world will end in fire, / Some say in ic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32767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41911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when ready, Gridley,” the Admiral sai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487692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48769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876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’t see into the future,” said the President, “but we have to prepare for it nonetheless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7848720" y="6095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679" h="21600">
                <a:moveTo>
                  <a:pt x="1484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679" h="21600">
                <a:moveTo>
                  <a:pt x="12263" y="8224"/>
                </a:moveTo>
                <a:lnTo>
                  <a:pt x="16128" y="8224"/>
                </a:lnTo>
                <a:lnTo>
                  <a:pt x="16128" y="15221"/>
                </a:lnTo>
                <a:lnTo>
                  <a:pt x="17416" y="15221"/>
                </a:lnTo>
                <a:lnTo>
                  <a:pt x="17416" y="16144"/>
                </a:lnTo>
                <a:lnTo>
                  <a:pt x="12263" y="16144"/>
                </a:lnTo>
                <a:lnTo>
                  <a:pt x="12263" y="15221"/>
                </a:lnTo>
                <a:lnTo>
                  <a:pt x="13551" y="15221"/>
                </a:lnTo>
                <a:lnTo>
                  <a:pt x="13551" y="9129"/>
                </a:lnTo>
                <a:lnTo>
                  <a:pt x="12263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parenthetical elements. This is the most difficult rule in comma usage. A parenthetical element is “added information,” something that can be removed from a sentence without changing the essential meaning of that sentence. Deciding what is “added information” and what is essential is sometimes difficult. See the next sl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3581280" y="5867280"/>
            <a:ext cx="1295640" cy="60984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5876" h="21600">
                <a:moveTo>
                  <a:pt x="0" y="0"/>
                </a:moveTo>
                <a:lnTo>
                  <a:pt x="45876" y="0"/>
                </a:lnTo>
                <a:lnTo>
                  <a:pt x="45876" y="21600"/>
                </a:lnTo>
                <a:lnTo>
                  <a:pt x="0" y="21600"/>
                </a:lnTo>
                <a:close/>
              </a:path>
              <a:path fill="lightenLess" w="45876" h="21600">
                <a:moveTo>
                  <a:pt x="0" y="0"/>
                </a:moveTo>
                <a:lnTo>
                  <a:pt x="45876" y="0"/>
                </a:lnTo>
                <a:lnTo>
                  <a:pt x="44476" y="1400"/>
                </a:lnTo>
                <a:lnTo>
                  <a:pt x="1400" y="1400"/>
                </a:lnTo>
                <a:close/>
              </a:path>
              <a:path fill="darken" w="45876" h="21600">
                <a:moveTo>
                  <a:pt x="45876" y="0"/>
                </a:moveTo>
                <a:lnTo>
                  <a:pt x="45876" y="21600"/>
                </a:lnTo>
                <a:lnTo>
                  <a:pt x="44476" y="20200"/>
                </a:lnTo>
                <a:lnTo>
                  <a:pt x="44476" y="1400"/>
                </a:lnTo>
                <a:close/>
              </a:path>
              <a:path fill="darkenLess" w="45876" h="21600">
                <a:moveTo>
                  <a:pt x="45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76" y="20200"/>
                </a:lnTo>
                <a:close/>
              </a:path>
              <a:path fill="lighten" w="45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76" h="21600">
                <a:moveTo>
                  <a:pt x="15932" y="3794"/>
                </a:moveTo>
                <a:lnTo>
                  <a:pt x="29945" y="10800"/>
                </a:lnTo>
                <a:lnTo>
                  <a:pt x="1593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3T23:37:07Z</dcterms:created>
  <dc:creator>Charles Darling</dc:creator>
  <dc:description/>
  <dc:language>en-US</dc:language>
  <cp:lastModifiedBy>Blackburn</cp:lastModifiedBy>
  <dcterms:modified xsi:type="dcterms:W3CDTF">2012-02-06T13:56:42Z</dcterms:modified>
  <cp:revision>37</cp:revision>
  <dc:subject/>
  <dc:title>No Slide Title</dc:title>
</cp:coreProperties>
</file>